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0933F-FAFB-467A-980B-1D3FB61BAB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B3EC8-A003-4144-A827-627824C0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3AED0-E33F-4F70-BE1D-90E499FF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19809-599E-4792-A672-B98C332CD3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911D4-C095-4EFE-864C-D07E0FDE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9C3AA-0105-48DF-BCB9-1D697523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7C549-5D29-4148-A926-79F5BB19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15AF5-4119-4EE8-9C09-F5111B85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040EC-D50B-4252-82C1-88B0664A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85964-EF90-49F7-8D2F-6B47661B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FED5B-F650-4466-B273-22815CBE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9B2A7-67DA-43C9-A400-27822E0E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D3CFED-72E5-4454-B4CD-D40E7D9D8CF8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971640" y="1989000"/>
            <a:ext cx="7200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404040"/>
                </a:solidFill>
                <a:latin typeface="Arial"/>
                <a:ea typeface="Arial"/>
              </a:rPr>
              <a:t>REVISÃO DOS BENEFÍCIOS POR INCAPACIDADE DE LONGA DUR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404040"/>
                </a:solidFill>
                <a:latin typeface="Arial"/>
                <a:ea typeface="Arial"/>
              </a:rPr>
              <a:t>MP nº 739/20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6516720" y="1268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404040"/>
                </a:solidFill>
                <a:latin typeface="Arial"/>
                <a:ea typeface="Arial"/>
              </a:rPr>
              <a:t>Agosto/20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Imagem 2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1046160" y="1830240"/>
            <a:ext cx="6923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971640" y="126828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Arial"/>
              </a:rPr>
              <a:t>ETAPAS DO PROCESS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Diagrama 5" descr=""/>
          <p:cNvPicPr/>
          <p:nvPr/>
        </p:nvPicPr>
        <p:blipFill>
          <a:blip r:embed="rId2"/>
          <a:stretch/>
        </p:blipFill>
        <p:spPr>
          <a:xfrm>
            <a:off x="755640" y="2097000"/>
            <a:ext cx="7705800" cy="4498920"/>
          </a:xfrm>
          <a:prstGeom prst="rect">
            <a:avLst/>
          </a:prstGeom>
          <a:ln w="0">
            <a:noFill/>
          </a:ln>
        </p:spPr>
      </p:pic>
      <p:pic>
        <p:nvPicPr>
          <p:cNvPr id="82" name="Diagrama 6" descr=""/>
          <p:cNvPicPr/>
          <p:nvPr/>
        </p:nvPicPr>
        <p:blipFill>
          <a:blip r:embed="rId3"/>
          <a:stretch/>
        </p:blipFill>
        <p:spPr>
          <a:xfrm>
            <a:off x="438120" y="4979880"/>
            <a:ext cx="8242200" cy="2122560"/>
          </a:xfrm>
          <a:prstGeom prst="rect">
            <a:avLst/>
          </a:prstGeom>
          <a:ln w="0">
            <a:noFill/>
          </a:ln>
        </p:spPr>
      </p:pic>
      <p:pic>
        <p:nvPicPr>
          <p:cNvPr id="83" name="Imagem 7" descr=""/>
          <p:cNvPicPr/>
          <p:nvPr/>
        </p:nvPicPr>
        <p:blipFill>
          <a:blip r:embed="rId4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"/>
          <p:cNvSpPr/>
          <p:nvPr/>
        </p:nvSpPr>
        <p:spPr>
          <a:xfrm>
            <a:off x="395280" y="1268280"/>
            <a:ext cx="8064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14440" indent="-513000" algn="just">
              <a:tabLst>
                <a:tab algn="l" pos="0"/>
                <a:tab algn="l" pos="38160"/>
                <a:tab algn="l" pos="514440"/>
                <a:tab algn="l" pos="531720"/>
                <a:tab algn="l" pos="1039680"/>
                <a:tab algn="l" pos="1535040"/>
                <a:tab algn="l" pos="2030400"/>
                <a:tab algn="l" pos="2538360"/>
                <a:tab algn="l" pos="3033720"/>
                <a:tab algn="l" pos="3541680"/>
                <a:tab algn="l" pos="4037040"/>
                <a:tab algn="l" pos="4532400"/>
                <a:tab algn="l" pos="5040360"/>
                <a:tab algn="l" pos="5535720"/>
                <a:tab algn="l" pos="6018120"/>
                <a:tab algn="l" pos="6526080"/>
                <a:tab algn="l" pos="7021440"/>
                <a:tab algn="l" pos="7529400"/>
                <a:tab algn="l" pos="8024760"/>
                <a:tab algn="l" pos="8520120"/>
                <a:tab algn="l" pos="9028080"/>
                <a:tab algn="l" pos="9523440"/>
                <a:tab algn="l" pos="10018800"/>
                <a:tab algn="l" pos="10031400"/>
                <a:tab algn="l" pos="100569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971640" y="1252440"/>
            <a:ext cx="720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700" spc="-1" strike="noStrike">
                <a:solidFill>
                  <a:srgbClr val="404040"/>
                </a:solidFill>
                <a:latin typeface="Arial"/>
                <a:ea typeface="Arial"/>
              </a:rPr>
              <a:t>QUANTIDADE DE BENEFÍCIO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77960" y="2462040"/>
          <a:ext cx="7499160" cy="2335320"/>
        </p:xfrm>
        <a:graphic>
          <a:graphicData uri="http://schemas.openxmlformats.org/drawingml/2006/table">
            <a:tbl>
              <a:tblPr/>
              <a:tblGrid>
                <a:gridCol w="3751200"/>
                <a:gridCol w="3747960"/>
              </a:tblGrid>
              <a:tr h="322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gi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4d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xílio-doenç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4d99"/>
                    </a:solidFill>
                  </a:tcPr>
                </a:tc>
              </a:tr>
              <a:tr h="320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Su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153.7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2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Nordes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127.5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8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Centro-Oes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33.1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0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Sudes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182.2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2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8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Nor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33.3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pt-BR" sz="20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530.1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88" name="Imagem 8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626160" cy="3980160"/>
          </a:xfrm>
          <a:prstGeom prst="rect">
            <a:avLst/>
          </a:prstGeom>
          <a:ln w="0">
            <a:noFill/>
          </a:ln>
        </p:spPr>
      </p:pic>
      <p:pic>
        <p:nvPicPr>
          <p:cNvPr id="90" name="Imagem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971640" y="1252440"/>
            <a:ext cx="720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700" spc="-1" strike="noStrike">
                <a:solidFill>
                  <a:srgbClr val="404040"/>
                </a:solidFill>
                <a:latin typeface="Arial"/>
                <a:ea typeface="Arial"/>
              </a:rPr>
              <a:t>QUANTIDADE DE BENEFÍCIO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395280" y="1268280"/>
            <a:ext cx="8064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14440" indent="-513000" algn="just">
              <a:tabLst>
                <a:tab algn="l" pos="0"/>
                <a:tab algn="l" pos="38160"/>
                <a:tab algn="l" pos="514440"/>
                <a:tab algn="l" pos="531720"/>
                <a:tab algn="l" pos="1039680"/>
                <a:tab algn="l" pos="1535040"/>
                <a:tab algn="l" pos="2030400"/>
                <a:tab algn="l" pos="2538360"/>
                <a:tab algn="l" pos="3033720"/>
                <a:tab algn="l" pos="3541680"/>
                <a:tab algn="l" pos="4037040"/>
                <a:tab algn="l" pos="4532400"/>
                <a:tab algn="l" pos="5040360"/>
                <a:tab algn="l" pos="5535720"/>
                <a:tab algn="l" pos="6018120"/>
                <a:tab algn="l" pos="6526080"/>
                <a:tab algn="l" pos="7021440"/>
                <a:tab algn="l" pos="7529400"/>
                <a:tab algn="l" pos="8024760"/>
                <a:tab algn="l" pos="8520120"/>
                <a:tab algn="l" pos="9028080"/>
                <a:tab algn="l" pos="9523440"/>
                <a:tab algn="l" pos="10018800"/>
                <a:tab algn="l" pos="10031400"/>
                <a:tab algn="l" pos="100569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900000" y="2349360"/>
          <a:ext cx="7344000" cy="3705480"/>
        </p:xfrm>
        <a:graphic>
          <a:graphicData uri="http://schemas.openxmlformats.org/drawingml/2006/table">
            <a:tbl>
              <a:tblPr/>
              <a:tblGrid>
                <a:gridCol w="1219320"/>
                <a:gridCol w="3097080"/>
                <a:gridCol w="3027600"/>
              </a:tblGrid>
              <a:tr h="63036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ixa etá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4d9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nefícios mantidos há mais de 2 anos* SEM PERÍ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4d9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 do Total de Benefícios mantidos há mais de 2 anos* SEM PERÍ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4d99"/>
                    </a:solidFill>
                  </a:tcPr>
                </a:tc>
              </a:tr>
              <a:tr h="51588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Até 29 an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12.1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2,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212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30 a 39 an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63.7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12,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768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40 a 49 an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145.5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27,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588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50 a 59 an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207.5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39,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588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60+ an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101.2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19,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76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530.15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100,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pic>
        <p:nvPicPr>
          <p:cNvPr id="95" name="Imagem 7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971640" y="1252440"/>
            <a:ext cx="720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700" spc="-1" strike="noStrike">
                <a:solidFill>
                  <a:srgbClr val="404040"/>
                </a:solidFill>
                <a:latin typeface="Arial"/>
                <a:ea typeface="Arial"/>
              </a:rPr>
              <a:t>QUANTIDADE DE BENEFÍCIO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395280" y="1268280"/>
            <a:ext cx="8064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14440" indent="-513000" algn="just">
              <a:tabLst>
                <a:tab algn="l" pos="0"/>
                <a:tab algn="l" pos="38160"/>
                <a:tab algn="l" pos="514440"/>
                <a:tab algn="l" pos="531720"/>
                <a:tab algn="l" pos="1039680"/>
                <a:tab algn="l" pos="1535040"/>
                <a:tab algn="l" pos="2030400"/>
                <a:tab algn="l" pos="2538360"/>
                <a:tab algn="l" pos="3033720"/>
                <a:tab algn="l" pos="3541680"/>
                <a:tab algn="l" pos="4037040"/>
                <a:tab algn="l" pos="4532400"/>
                <a:tab algn="l" pos="5040360"/>
                <a:tab algn="l" pos="5535720"/>
                <a:tab algn="l" pos="6018120"/>
                <a:tab algn="l" pos="6526080"/>
                <a:tab algn="l" pos="7021440"/>
                <a:tab algn="l" pos="7529400"/>
                <a:tab algn="l" pos="8024760"/>
                <a:tab algn="l" pos="8520120"/>
                <a:tab algn="l" pos="9028080"/>
                <a:tab algn="l" pos="9523440"/>
                <a:tab algn="l" pos="10018800"/>
                <a:tab algn="l" pos="10031400"/>
                <a:tab algn="l" pos="100569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971640" y="1279440"/>
            <a:ext cx="72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QUANTIDADE DE BENEFÍCI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07920" y="2452680"/>
          <a:ext cx="7336080" cy="3208320"/>
        </p:xfrm>
        <a:graphic>
          <a:graphicData uri="http://schemas.openxmlformats.org/drawingml/2006/table">
            <a:tbl>
              <a:tblPr/>
              <a:tblGrid>
                <a:gridCol w="1217880"/>
                <a:gridCol w="3093840"/>
                <a:gridCol w="3024360"/>
              </a:tblGrid>
              <a:tr h="63036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uração do Benefício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4d9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nefícios mantidos há mai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 2 anos* SEM PERÍC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4d9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 do Total de Benefícios mantido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á mais de 2 anos* SEM PERÍC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4d99"/>
                    </a:solidFill>
                  </a:tcPr>
                </a:tc>
              </a:tr>
              <a:tr h="5140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3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2 a 4 ano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3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219.492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3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41,4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62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3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5 a 9 ano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3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239.902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3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45,3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58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3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10 a 15 ano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3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67.178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3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12,7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58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3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+ de 15 ano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3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3.585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3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0,7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58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3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3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530.15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3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100,0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pic>
        <p:nvPicPr>
          <p:cNvPr id="101" name="Imagem 6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395280" y="1268280"/>
            <a:ext cx="8064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14440" indent="-513000" algn="just">
              <a:tabLst>
                <a:tab algn="l" pos="0"/>
                <a:tab algn="l" pos="38160"/>
                <a:tab algn="l" pos="514440"/>
                <a:tab algn="l" pos="531720"/>
                <a:tab algn="l" pos="1039680"/>
                <a:tab algn="l" pos="1535040"/>
                <a:tab algn="l" pos="2030400"/>
                <a:tab algn="l" pos="2538360"/>
                <a:tab algn="l" pos="3033720"/>
                <a:tab algn="l" pos="3541680"/>
                <a:tab algn="l" pos="4037040"/>
                <a:tab algn="l" pos="4532400"/>
                <a:tab algn="l" pos="5040360"/>
                <a:tab algn="l" pos="5535720"/>
                <a:tab algn="l" pos="6018120"/>
                <a:tab algn="l" pos="6526080"/>
                <a:tab algn="l" pos="7021440"/>
                <a:tab algn="l" pos="7529400"/>
                <a:tab algn="l" pos="8024760"/>
                <a:tab algn="l" pos="8520120"/>
                <a:tab algn="l" pos="9028080"/>
                <a:tab algn="l" pos="9523440"/>
                <a:tab algn="l" pos="10018800"/>
                <a:tab algn="l" pos="10031400"/>
                <a:tab algn="l" pos="100569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971640" y="1268280"/>
            <a:ext cx="7200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VALOR DOS BENEFÍCIO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Arial"/>
                <a:ea typeface="Arial"/>
              </a:rPr>
              <a:t>- 5 MAIORES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2708280"/>
          <a:ext cx="7334280" cy="3379680"/>
        </p:xfrm>
        <a:graphic>
          <a:graphicData uri="http://schemas.openxmlformats.org/drawingml/2006/table">
            <a:tbl>
              <a:tblPr/>
              <a:tblGrid>
                <a:gridCol w="733680"/>
                <a:gridCol w="4325760"/>
                <a:gridCol w="2274840"/>
              </a:tblGrid>
              <a:tr h="936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F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4d9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nefícios de AUXÍLIO DOENÇA mantid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á mais de 2 anos SEM PERÍCI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4d9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lor Mensal do Beneficio  (Jun/2016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4d99"/>
                    </a:solidFill>
                  </a:tcPr>
                </a:tc>
              </a:tr>
              <a:tr h="480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SP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99.52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R$ 138.700.887,2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95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87.53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R$ 107.034.102,1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91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RJ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41.34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R$   56.172.355,7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0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P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36.20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R$   41.272.233,6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23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MG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36.84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R$   40.440.808,8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06" name="Imagem 6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971640" y="2276640"/>
            <a:ext cx="7200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      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Percentual de Reversões de Aux. Doença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nsiderando o valor médio dos benefícios em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R$ 1.193,7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ECONOM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420920" y="2997360"/>
          <a:ext cx="6391080" cy="2323800"/>
        </p:xfrm>
        <a:graphic>
          <a:graphicData uri="http://schemas.openxmlformats.org/drawingml/2006/table">
            <a:tbl>
              <a:tblPr/>
              <a:tblGrid>
                <a:gridCol w="1307880"/>
                <a:gridCol w="2541600"/>
                <a:gridCol w="2541600"/>
              </a:tblGrid>
              <a:tr h="581040">
                <a:tc>
                  <a:txBody>
                    <a:bodyPr lIns="90720" rIns="90720" tIns="47160" bIns="47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Percentual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4d99"/>
                    </a:solidFill>
                  </a:tcPr>
                </a:tc>
                <a:tc>
                  <a:txBody>
                    <a:bodyPr lIns="90720" rIns="90720" tIns="47160" bIns="47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1 Mê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4d99"/>
                    </a:solidFill>
                  </a:tcPr>
                </a:tc>
                <a:tc>
                  <a:txBody>
                    <a:bodyPr lIns="90720" rIns="90720" tIns="47160" bIns="47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12 Mes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4d99"/>
                    </a:solidFill>
                  </a:tcPr>
                </a:tc>
              </a:tr>
              <a:tr h="582480">
                <a:tc>
                  <a:txBody>
                    <a:bodyPr lIns="90720" rIns="90720" tIns="47160" bIns="47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900" spc="-1" strike="noStrike">
                          <a:solidFill>
                            <a:srgbClr val="004d99"/>
                          </a:solidFill>
                          <a:latin typeface="Calibri"/>
                          <a:ea typeface="Arial"/>
                        </a:rPr>
                        <a:t>10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720" rIns="90720" tIns="47160" bIns="47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900" spc="-1" strike="noStrike">
                          <a:solidFill>
                            <a:srgbClr val="004d99"/>
                          </a:solidFill>
                          <a:latin typeface="Calibri"/>
                          <a:ea typeface="Arial"/>
                        </a:rPr>
                        <a:t>R$ 63.286.431,5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720" rIns="90720" tIns="47160" bIns="47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900" spc="-1" strike="noStrike">
                          <a:solidFill>
                            <a:srgbClr val="004d99"/>
                          </a:solidFill>
                          <a:latin typeface="Calibri"/>
                          <a:ea typeface="Arial"/>
                        </a:rPr>
                        <a:t>R$ 759.437.178,6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240">
                <a:tc>
                  <a:txBody>
                    <a:bodyPr lIns="90720" rIns="90720" tIns="47160" bIns="47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900" spc="-1" strike="noStrike">
                          <a:solidFill>
                            <a:srgbClr val="004d99"/>
                          </a:solidFill>
                          <a:latin typeface="Calibri"/>
                          <a:ea typeface="Arial"/>
                        </a:rPr>
                        <a:t>15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720" rIns="90720" tIns="47160" bIns="47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900" spc="-1" strike="noStrike">
                          <a:solidFill>
                            <a:srgbClr val="004d99"/>
                          </a:solidFill>
                          <a:latin typeface="Calibri"/>
                          <a:ea typeface="Arial"/>
                        </a:rPr>
                        <a:t>R$ 94.929.647,3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720" rIns="90720" tIns="47160" bIns="47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900" spc="-1" strike="noStrike">
                          <a:solidFill>
                            <a:srgbClr val="004d99"/>
                          </a:solidFill>
                          <a:latin typeface="Calibri"/>
                          <a:ea typeface="Arial"/>
                        </a:rPr>
                        <a:t>R$ 1.139.155.767,9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040">
                <a:tc>
                  <a:txBody>
                    <a:bodyPr lIns="90720" rIns="90720" tIns="47160" bIns="47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900" spc="-1" strike="noStrike">
                          <a:solidFill>
                            <a:srgbClr val="004d99"/>
                          </a:solidFill>
                          <a:latin typeface="Calibri"/>
                          <a:ea typeface="Arial"/>
                        </a:rPr>
                        <a:t>20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720" rIns="90720" tIns="47160" bIns="47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900" spc="-1" strike="noStrike">
                          <a:solidFill>
                            <a:srgbClr val="004d99"/>
                          </a:solidFill>
                          <a:latin typeface="Calibri"/>
                          <a:ea typeface="Arial"/>
                        </a:rPr>
                        <a:t>R$ 126.572.863,0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720" rIns="90720" tIns="47160" bIns="47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900" spc="-1" strike="noStrike">
                          <a:solidFill>
                            <a:srgbClr val="004d99"/>
                          </a:solidFill>
                          <a:latin typeface="Calibri"/>
                          <a:ea typeface="Arial"/>
                        </a:rPr>
                        <a:t>R$1.518.874.356,9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11" name="Imagem 6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395280" y="1844640"/>
            <a:ext cx="8064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tabLst>
                <a:tab algn="l" pos="0"/>
                <a:tab algn="l" pos="38160"/>
                <a:tab algn="l" pos="514440"/>
                <a:tab algn="l" pos="531720"/>
                <a:tab algn="l" pos="1039680"/>
                <a:tab algn="l" pos="1535040"/>
                <a:tab algn="l" pos="2030400"/>
                <a:tab algn="l" pos="2538360"/>
                <a:tab algn="l" pos="3033720"/>
                <a:tab algn="l" pos="3541680"/>
                <a:tab algn="l" pos="4037040"/>
                <a:tab algn="l" pos="4532400"/>
                <a:tab algn="l" pos="5040360"/>
                <a:tab algn="l" pos="5535720"/>
                <a:tab algn="l" pos="6018120"/>
                <a:tab algn="l" pos="6526080"/>
                <a:tab algn="l" pos="7021440"/>
                <a:tab algn="l" pos="7529400"/>
                <a:tab algn="l" pos="8024760"/>
                <a:tab algn="l" pos="8520120"/>
                <a:tab algn="l" pos="9028080"/>
                <a:tab algn="l" pos="9523440"/>
                <a:tab algn="l" pos="10018800"/>
                <a:tab algn="l" pos="10031400"/>
                <a:tab algn="l" pos="1005696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3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8160"/>
                <a:tab algn="l" pos="514440"/>
                <a:tab algn="l" pos="531720"/>
                <a:tab algn="l" pos="1039680"/>
                <a:tab algn="l" pos="1535040"/>
                <a:tab algn="l" pos="2030400"/>
                <a:tab algn="l" pos="2538360"/>
                <a:tab algn="l" pos="3033720"/>
                <a:tab algn="l" pos="3541680"/>
                <a:tab algn="l" pos="4037040"/>
                <a:tab algn="l" pos="4532400"/>
                <a:tab algn="l" pos="5040360"/>
                <a:tab algn="l" pos="5535720"/>
                <a:tab algn="l" pos="6018120"/>
                <a:tab algn="l" pos="6526080"/>
                <a:tab algn="l" pos="7021440"/>
                <a:tab algn="l" pos="7529400"/>
                <a:tab algn="l" pos="8024760"/>
                <a:tab algn="l" pos="8520120"/>
                <a:tab algn="l" pos="9028080"/>
                <a:tab algn="l" pos="9523440"/>
                <a:tab algn="l" pos="10018800"/>
                <a:tab algn="l" pos="10031400"/>
                <a:tab algn="l" pos="1005696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DM.016814: 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viabilizará a realização de marcação de pedido de prorrogação/ reconsideração para benefícios concedidos/reativados por decisão judicial</a:t>
            </a:r>
            <a:br>
              <a:rPr sz="2500"/>
            </a:br>
            <a:r>
              <a:rPr b="0" lang="en-US" sz="25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3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8160"/>
                <a:tab algn="l" pos="514440"/>
                <a:tab algn="l" pos="531720"/>
                <a:tab algn="l" pos="1039680"/>
                <a:tab algn="l" pos="1535040"/>
                <a:tab algn="l" pos="2030400"/>
                <a:tab algn="l" pos="2538360"/>
                <a:tab algn="l" pos="3033720"/>
                <a:tab algn="l" pos="3541680"/>
                <a:tab algn="l" pos="4037040"/>
                <a:tab algn="l" pos="4532400"/>
                <a:tab algn="l" pos="5040360"/>
                <a:tab algn="l" pos="5535720"/>
                <a:tab algn="l" pos="6018120"/>
                <a:tab algn="l" pos="6526080"/>
                <a:tab algn="l" pos="7021440"/>
                <a:tab algn="l" pos="7529400"/>
                <a:tab algn="l" pos="8024760"/>
                <a:tab algn="l" pos="8520120"/>
                <a:tab algn="l" pos="9028080"/>
                <a:tab algn="l" pos="9523440"/>
                <a:tab algn="l" pos="10018800"/>
                <a:tab algn="l" pos="10031400"/>
                <a:tab algn="l" pos="100569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DM.060820: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viabilizará a cessação dos benefícios concedidos/reativados por decisão judicial por motivos não relacionados a própria ação jud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3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8160"/>
                <a:tab algn="l" pos="514440"/>
                <a:tab algn="l" pos="531720"/>
                <a:tab algn="l" pos="1039680"/>
                <a:tab algn="l" pos="1535040"/>
                <a:tab algn="l" pos="2030400"/>
                <a:tab algn="l" pos="2538360"/>
                <a:tab algn="l" pos="3033720"/>
                <a:tab algn="l" pos="3541680"/>
                <a:tab algn="l" pos="4037040"/>
                <a:tab algn="l" pos="4532400"/>
                <a:tab algn="l" pos="5040360"/>
                <a:tab algn="l" pos="5535720"/>
                <a:tab algn="l" pos="6018120"/>
                <a:tab algn="l" pos="6526080"/>
                <a:tab algn="l" pos="7021440"/>
                <a:tab algn="l" pos="7529400"/>
                <a:tab algn="l" pos="8024760"/>
                <a:tab algn="l" pos="8520120"/>
                <a:tab algn="l" pos="9028080"/>
                <a:tab algn="l" pos="9523440"/>
                <a:tab algn="l" pos="10018800"/>
                <a:tab algn="l" pos="1003140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3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8160"/>
                <a:tab algn="l" pos="514440"/>
                <a:tab algn="l" pos="531720"/>
                <a:tab algn="l" pos="1039680"/>
                <a:tab algn="l" pos="1535040"/>
                <a:tab algn="l" pos="2030400"/>
                <a:tab algn="l" pos="2538360"/>
                <a:tab algn="l" pos="3033720"/>
                <a:tab algn="l" pos="3541680"/>
                <a:tab algn="l" pos="4037040"/>
                <a:tab algn="l" pos="4532400"/>
                <a:tab algn="l" pos="5040360"/>
                <a:tab algn="l" pos="5535720"/>
                <a:tab algn="l" pos="6018120"/>
                <a:tab algn="l" pos="6526080"/>
                <a:tab algn="l" pos="7021440"/>
                <a:tab algn="l" pos="7529400"/>
                <a:tab algn="l" pos="8024760"/>
                <a:tab algn="l" pos="8520120"/>
                <a:tab algn="l" pos="9028080"/>
                <a:tab algn="l" pos="9523440"/>
                <a:tab algn="l" pos="10018800"/>
                <a:tab algn="l" pos="10031400"/>
                <a:tab algn="l" pos="100569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Previsão: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1ª semana de setembro/20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38160"/>
                <a:tab algn="l" pos="514440"/>
                <a:tab algn="l" pos="531720"/>
                <a:tab algn="l" pos="1039680"/>
                <a:tab algn="l" pos="1535040"/>
                <a:tab algn="l" pos="2030400"/>
                <a:tab algn="l" pos="2538360"/>
                <a:tab algn="l" pos="3033720"/>
                <a:tab algn="l" pos="3541680"/>
                <a:tab algn="l" pos="4037040"/>
                <a:tab algn="l" pos="4532400"/>
                <a:tab algn="l" pos="5040360"/>
                <a:tab algn="l" pos="5535720"/>
                <a:tab algn="l" pos="6018120"/>
                <a:tab algn="l" pos="6526080"/>
                <a:tab algn="l" pos="7021440"/>
                <a:tab algn="l" pos="7529400"/>
                <a:tab algn="l" pos="8024760"/>
                <a:tab algn="l" pos="8520120"/>
                <a:tab algn="l" pos="9028080"/>
                <a:tab algn="l" pos="9523440"/>
                <a:tab algn="l" pos="10018800"/>
                <a:tab algn="l" pos="1003140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971640" y="126828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ADEQUAÇÕES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SISTÊMIC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Imagem 5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971640" y="2311560"/>
            <a:ext cx="7200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Resolução nº 544/PRES/INSS, de 09/08/2016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1919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Adesão dos médicos peritos do INSS ao Programa de Revisão dos Benefícios por Incapacidade (prazo final 25/08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1919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1919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O agendamento ocorrerá de acordo com a capacidade operacional das unidades de atendimento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OPERACIONALIZ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Imagem 5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1046160" y="1830240"/>
            <a:ext cx="6923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INSCRITOS X BI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98560" y="2421000"/>
          <a:ext cx="7345440" cy="3000240"/>
        </p:xfrm>
        <a:graphic>
          <a:graphicData uri="http://schemas.openxmlformats.org/drawingml/2006/table">
            <a:tbl>
              <a:tblPr/>
              <a:tblGrid>
                <a:gridCol w="1836720"/>
                <a:gridCol w="1836720"/>
                <a:gridCol w="1835280"/>
                <a:gridCol w="1836720"/>
              </a:tblGrid>
              <a:tr h="1152360">
                <a:tc>
                  <a:txBody>
                    <a:bodyPr lIns="89280" rIns="89280" tIns="46440" bIns="4644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X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9280" marR="89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4d99"/>
                    </a:solidFill>
                  </a:tcPr>
                </a:tc>
                <a:tc>
                  <a:txBody>
                    <a:bodyPr lIns="89280" rIns="89280" tIns="46440" bIns="4644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uantidade de peritos (estimativa de adesão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9280" marR="89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4d99"/>
                    </a:solidFill>
                  </a:tcPr>
                </a:tc>
                <a:tc>
                  <a:txBody>
                    <a:bodyPr lIns="89280" rIns="89280" tIns="46440" bIns="4644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uantidad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 perícia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9280" marR="89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4d99"/>
                    </a:solidFill>
                  </a:tcPr>
                </a:tc>
                <a:tc>
                  <a:txBody>
                    <a:bodyPr lIns="89280" rIns="89280" tIns="46440" bIns="4644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uantidade de dias necessários (4 perícias/Perito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9280" marR="89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4d99"/>
                    </a:solidFill>
                  </a:tcPr>
                </a:tc>
              </a:tr>
              <a:tr h="368280">
                <a:tc>
                  <a:txBody>
                    <a:bodyPr lIns="89280" rIns="89280" tIns="46440" bIns="4644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SP – Centr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9280" marR="89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9280" rIns="89280" tIns="46440" bIns="4644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30/6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9280" marR="89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9280" rIns="89280" tIns="46440" bIns="4644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228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9280" marR="89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9280" rIns="89280" tIns="46440" bIns="4644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9280" marR="89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89280" rIns="89280" tIns="46440" bIns="4644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RJ – Nort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9280" marR="89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9280" rIns="89280" tIns="46440" bIns="4644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11/4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9280" marR="89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9280" rIns="89280" tIns="46440" bIns="4644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593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9280" marR="89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9280" rIns="89280" tIns="46440" bIns="4644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13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9280" marR="89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89280" rIns="89280" tIns="46440" bIns="4644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Teresin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9280" marR="89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9280" rIns="89280" tIns="46440" bIns="4644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43/5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9280" marR="89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9280" rIns="89280" tIns="46440" bIns="4644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731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9280" marR="89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9280" rIns="89280" tIns="46440" bIns="4644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9280" marR="89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89280" rIns="89280" tIns="46440" bIns="4644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Curitib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9280" marR="89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9280" rIns="89280" tIns="46440" bIns="4644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45/6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9280" marR="89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9280" rIns="89280" tIns="46440" bIns="4644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879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9280" marR="89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9280" rIns="89280" tIns="46440" bIns="4644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9280" marR="89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89280" rIns="89280" tIns="46440" bIns="4644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Florianópoli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9280" marR="89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9280" rIns="89280" tIns="46440" bIns="4644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40/6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9280" marR="89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9280" rIns="89280" tIns="46440" bIns="4644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316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9280" marR="89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9280" rIns="89280" tIns="46440" bIns="4644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4d99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9280" marR="89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24" name="Imagem 6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971640" y="2349360"/>
            <a:ext cx="720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71680" indent="-571680">
              <a:buClr>
                <a:srgbClr val="1919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MP nº 739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,</a:t>
            </a:r>
            <a:r>
              <a:rPr b="1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de 07/07/1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571680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404040"/>
                </a:solidFill>
                <a:latin typeface="Arial"/>
                <a:ea typeface="Arial"/>
              </a:rPr>
              <a:t>Portaria Interministerial n°127/MDSA/MF/MP</a:t>
            </a:r>
            <a:r>
              <a:rPr b="0" lang="pt-BR" sz="3000" spc="-1" strike="noStrike">
                <a:solidFill>
                  <a:srgbClr val="404040"/>
                </a:solidFill>
                <a:latin typeface="Arial"/>
                <a:ea typeface="Arial"/>
              </a:rPr>
              <a:t>, de 04/08/1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571680" indent="-571680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Resolução nº 544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, de 09/08/1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571680" indent="-571680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Portaria Conjunta nº 7/INSS/PGF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, de 19/08/16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971640" y="126828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NOR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Imagem 5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971640" y="2349360"/>
            <a:ext cx="72007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300" spc="-1" strike="noStrike">
                <a:solidFill>
                  <a:srgbClr val="404040"/>
                </a:solidFill>
                <a:latin typeface="Arial"/>
                <a:ea typeface="Arial"/>
              </a:rPr>
              <a:t>Ato do Presidente do INSS orientará quanto a operacionalização das convocações dos beneficiários, observando a ordem de priorização proposta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1. Os Serviços de Saúde do Trabalhador das GEX  receberão as adesões dos peritos ao Programa de Revisão dos Benefícios por Incapacidade, de forma a configurar-se as agendas médicas para cada AP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OPERACIONALIZ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Imagem 5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971640" y="2382840"/>
            <a:ext cx="7200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just">
              <a:tabLst>
                <a:tab algn="l" pos="0"/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2. As convocações serão realizadas - em um primeiro momento  - por meio de correspondências com aviso de recebimento, fixando o prazo de 5 dias para que o beneficiário agende a perícia revisional.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3. As instituições financeiras pagadoras de benefícios, a partir da competência 10/2016 (pagamento em 11/2016) promoverão comunicação aos beneficiários, direcionando-os para a Central de Teleatendimento 135. Lá, serão orientados quanto a marcação do exame revision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OPERACIONALIZ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Imagem 6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971640" y="2349360"/>
            <a:ext cx="72007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just">
              <a:tabLst>
                <a:tab algn="l" pos="0"/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4. A central de Teleatendimento 135 promoverá o agendamento através do Sistema de Agendamentos - SISAG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5. Na data agendada, a perícia médica revisional será realizada de forma a avaliar-se a permanência da incapacidade laborativa do beneficiário, com as possíveis conclusõ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. Cessação imediata do benefício, face inexistência da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ermanência da incapacidade laborativ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OPERACIONALIZ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Imagem 6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971640" y="2421000"/>
            <a:ext cx="7200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14440" indent="-513000"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b. Cessação do benefício com data futura, considerando-se análise técnica de previsão da recuperação definitiva da capacidade laborativa;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3000"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. Encaminhamento do beneficiário ao programa de reabilitação profissional, se verificada incapacidade definitiva para a atividade habitual do beneficiário, porém não para outras atividad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3000"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3000"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. Concessão de benefício de aposentadoria por invalidez, se verificada incapacidade definitiva para qualquer atividade laborativ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3000"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OPERACIONALIZ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Imagem 6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971640" y="2349360"/>
            <a:ext cx="72007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just">
              <a:tabLst>
                <a:tab algn="l" pos="0"/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6. De acordo com a conclusão médico-pericial, o beneficiário poderá, a seu critério (havendo divergência quanto a conclusão), interpor pedido de prorrogação do benefício, pedido de reconsideração ou recurso junto ao Conselho de Recursos da Previdência Soci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OPERACIONALIZ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Imagem 5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971640" y="2349360"/>
            <a:ext cx="72007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12640" indent="-511200" algn="just"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900000" y="2487600"/>
            <a:ext cx="720108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Obrigado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Arial"/>
              </a:rPr>
              <a:t>Leonardo de Melo Gadel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Arial"/>
              </a:rPr>
              <a:t>Presidente do IN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Imagem 6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971640" y="2349360"/>
            <a:ext cx="720072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Data de publicação: 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08/07/2016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Escopo: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 promover a reavaliação dos benefícios por incapacidade, de forma a averiguar-se a permanência da incapacidade laborativa dos beneficiários, com vistas a interrupção de possíveis pagamentos indevidos de benefícios conforme art. 59 da Lei nº 8.213/91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50920" y="1262160"/>
            <a:ext cx="83534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700" spc="-1" strike="noStrike">
                <a:solidFill>
                  <a:srgbClr val="404040"/>
                </a:solidFill>
                <a:latin typeface="Arial"/>
                <a:ea typeface="Arial"/>
              </a:rPr>
              <a:t>MEDIDA PROVISÓRIA Nº 739/2016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Imagem 5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971640" y="2276640"/>
            <a:ext cx="7200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Portaria Interministerial nº 127/MDSA/MF/MP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de 04/08/2016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Benefícios por incapacidade mantidos há mais de dois anos, sem realização de perícia médica no período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Aposentados por invalidez com idade inferior a 60 anos de idade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REGULAMENT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Imagem 5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971640" y="2276640"/>
            <a:ext cx="7200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Portaria Interministerial nº 127/MDSA/MF/MP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de 04/08/2016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1919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Prioridades de convocação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19196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a. Auxílio-doença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b. Aposentadoria por invalidez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everão ser convocados, prioritariamente, os beneficiários com menor idade e com benefícios mantidos há mais temp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REGULAMENT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Imagem 6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969840" y="2311560"/>
            <a:ext cx="7202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Portaria Interministerial nº 127/MDSA/MF/MP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de 04/08/2016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As perícias de reavaliação serão realizadas por médicos peritos que aderirem ao programa, sem prejuízo ao atendimento da demanda regular do serviço médico-pericial das unidades do IN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Haverá pagamento de bônus ao médico perito referente à realização de cada perícia ext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REGULAMENT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Imagem 6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969840" y="2311560"/>
            <a:ext cx="7202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Portaria Conjunta nº 7/INSS/PGF, de 19/08/16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Estabelece fluxo de revisão dos BILDs concedidos judicial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Não será cabível alteração de datas técnicas decorrentes do processo judicial (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ata do início da incapacidade, da doença ou do benefício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O INSS poderá regulamentar a fixação de tais datas quando não constarem em seus sis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REGULAMENT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Imagem 6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969840" y="2179800"/>
            <a:ext cx="7202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Portaria Conjunta nº 7/INSS/PGF, de 19/08/16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1919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Nos casos em que ficar constatada a ausência da incapacidade laboral o benefício será cessado sem necessidade de manifestação prévia ou posterior do órgão de execução da PGF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1919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Lei 8213/91: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ainda que concedidos judicialmente, os benefícios estão submetidos às regras de manutenção administrativas do INS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1919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1919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O INSS encaminhará à PGF relatórios trimestrais sobre o resultado das perícia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REGULAMENT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Imagem 6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1046160" y="1830240"/>
            <a:ext cx="6923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971640" y="126828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191966"/>
                </a:solidFill>
                <a:latin typeface="Arial"/>
                <a:ea typeface="Arial"/>
              </a:rPr>
              <a:t>FLUX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7200720" cy="4302000"/>
          </a:xfrm>
          <a:prstGeom prst="rect">
            <a:avLst/>
          </a:prstGeom>
          <a:ln w="0">
            <a:noFill/>
          </a:ln>
        </p:spPr>
      </p:pic>
      <p:pic>
        <p:nvPicPr>
          <p:cNvPr id="77" name="Imagem 6" descr=""/>
          <p:cNvPicPr/>
          <p:nvPr/>
        </p:nvPicPr>
        <p:blipFill>
          <a:blip r:embed="rId3"/>
          <a:stretch/>
        </p:blipFill>
        <p:spPr>
          <a:xfrm>
            <a:off x="0" y="38736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1:10:45Z</dcterms:created>
  <dc:creator>inss</dc:creator>
  <dc:description/>
  <dc:language>en-US</dc:language>
  <cp:lastModifiedBy>Sabrina Dias de Araujo Mendonca - MPS</cp:lastModifiedBy>
  <cp:lastPrinted>2016-08-24T22:40:05Z</cp:lastPrinted>
  <dcterms:modified xsi:type="dcterms:W3CDTF">2016-08-25T10:37:33Z</dcterms:modified>
  <cp:revision>71</cp:revision>
  <dc:subject/>
  <dc:title>Slide 1</dc:title>
</cp:coreProperties>
</file>